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4A5A7-D873-4AFB-AE8F-8C7A1F7937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BA0A9-45D1-47DC-80F6-BF4B187AAD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2B3A6-2ED1-44C5-B7A1-DBE878F1E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06DD7-C056-455B-ABA8-8AFAD864D5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18D8-AF85-479B-BB3B-C671B203D6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27611-61D4-4EE2-837A-6E0872E7CB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EEC24-D838-460E-B28C-4AB2E7EEF6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45C8A-B817-4A64-8991-349D4104F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BC03-BC54-4425-BCD2-D42288F6CD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59A18-191D-408B-83F5-1BAE561211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3811E-B7FA-4575-BBF6-4EFEE3B393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6B83F-2965-4E1D-ACDB-46BF22FE9F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6F5F0-E509-4915-B65F-6C333C02C4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F9E-A436-4C5D-BACE-84EBA514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780-62A1-4B5C-8557-E58BEF07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53E-DE00-4A7E-9686-681B9B5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169-CE17-4168-B264-B4CD380B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0857-E8B6-464B-8D1B-509DD308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AE9-69AD-47A8-8423-9AF2A981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8A9-8B6B-4404-A1BE-F0D2B58D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8AE-B981-4D3A-A5AC-F632741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030-B4EE-4EFA-948D-B070B6F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E4CB-5CDE-419C-909D-F43D3ED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1FDF-03AF-46E4-9909-6700EE0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82D-9159-4878-8A1C-B68B4C29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7E1-E8B2-4D0F-A441-29282E1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FE60-7E22-4642-8237-53E3DF4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7563-EA11-4CD4-8DFA-C5BF635F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579-FAD3-42D7-AE32-125391D5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7BC5-6055-4B73-9157-73F21AFB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C6C8-1977-4673-B9F4-0CDB6B92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9F96-2A29-4D00-A0F2-1BCD036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8206-6996-412F-81C0-01EBCDF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E534-7B17-4C1F-9BAD-878AF605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133D-A5DF-4FBD-8D95-6728DB6E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078-82A5-41E0-B6C5-A9686803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8376-B237-459F-8C6E-9F303C9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B542D-F4C1-4353-AB5F-60863B7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B0ED-AB34-4BAD-837E-080D1851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F1A8-A6E4-4F9E-9B8D-CA04083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5F50-1029-44B7-8D05-B156C29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62BB-DDE0-43E2-8BAB-BD0779E7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FC28-B915-4D68-8CCC-C33163E3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07A9-BBA3-45B4-B60B-C770CDEF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C246-685F-42CB-9B69-107262E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F9D3-067F-4F51-BDD7-41CAE70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3D7-E83E-4042-89DB-5C125237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6C31-A481-43E3-94D4-1B43FD5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A2C1-CE8C-44D8-9B9A-B7DA174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4704-92AD-4DC1-BDAC-173929A5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0E09-E65E-4478-806D-1FA8DDB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7CA2-71B7-48A3-8D6A-2533D80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9AA4-34AE-4163-AAAC-49D16F9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1B50-072F-4BD8-8A05-A7E362BC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177A-7F6C-4EA2-BFB4-9B6C853E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8148-4F7A-4589-A42C-E5D7DC26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E5999-AD02-44D4-AA17-DB63B60F9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7A7-EAEF-4691-B6D2-91427BFB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93874-837D-4B70-AB68-2F06510C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EF12A-2B26-4292-978F-36DE017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E689E-759F-46A8-BE49-FCDC84F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20801-3ADD-4040-87BA-F2690366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C350C-88DA-4CA2-8B88-CFE2831C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D35AD-7508-4930-A820-5DD9CE54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CE777-9D60-408A-B3C2-9E7E967D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77B6D-A295-4234-82D5-F8A66A6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EF10D-2900-465F-9D8C-63896858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D911A-B754-41FC-860C-9A15521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BDD-2BF3-486A-A811-62FC533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77B07-966D-48D7-A4CF-286EC1E0C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1FD-4293-4CCD-B38F-8FE988D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73F-EFBA-451E-B4AF-B67F918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4C5-1B74-4C1B-8620-5739585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F5EDEC-C578-46B1-A402-8D9805FDBB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5CB948-B133-4264-AE82-2E66308147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32DB64-5D1D-43AB-AE2C-CF39FD1D9C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0E247A-94B1-4FB9-9436-E1173867C7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8FD15-7B8B-4740-A50A-F0C65AE0E36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714240"/>
            <a:ext cx="7851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ПОНИМАНИЕ – НАЧАЛО  СОГЛА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8429400" cy="1643040"/>
          </a:xfrm>
          <a:prstGeom prst="rect">
            <a:avLst/>
          </a:prstGeom>
          <a:noFill/>
          <a:ln w="0">
            <a:noFill/>
          </a:ln>
        </p:spPr>
        <p:txBody>
          <a:bodyPr rIns="18360" tIns="45000" bIns="450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ИЧИНЫ КОНФЛИКТОВ И СТИЛИ РАЗРЕШЕНИЯ КОНФЛИКТНЫХ СИТУАЦИЙ С ДЕТЬ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1"/>
          <a:stretch/>
        </p:blipFill>
        <p:spPr>
          <a:xfrm>
            <a:off x="2633760" y="2381400"/>
            <a:ext cx="38764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ОСНОВНЫЕ ПРАВИЛА БЕСКОНФЛИКТНОГО ОБЩЕНИЯ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42920" y="1000080"/>
            <a:ext cx="8786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ните, что прямолинейность хороша, но не всегда. Критикуйте, но не злорадствуйте. Во всем надо знать меру. Сказать правду тоже надо уметь! Будьте независимы, но не самонадеянны. Не превращайте настойчивость в назойл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те справедливы и терпимы к людям. Не переоценивайте свои способности и возможности и не умаляйте способности и возможности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оявляйте инициативу там, где в ней не нужд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уйте себя в творчестве, а не в конфли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йте выдержку, овладейте умениями саморегуляции. Уважение к людям, знание правил ведения спора, дискуссии, правил общения помогают предотвращать ненужны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нфликт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АВИЛА ПРЕДУПРЕЖДЕНИЯ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говорите сразу со взвинченным, возбужденным человек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ежде чем сказать о неприятном, постарайтесь создать доброжелательную атмосферу, отметьте заслуги человека, его хорошие дела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тарайтесь посмотреть на проблему глазами оппонента, постарайтесь «встать на его место»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скрывайте доброго отношения к людям, чаще высказывайте одобрение своим товарищам, не скупитесь на похвалу;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йте заставить себя молчать, когда вас задевают в мелкой ссоре, будьте выше мелочных разборок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Times New Roman"/>
              </a:rPr>
              <a:t>Служба школьной медиац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81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ешение конфликта с помощью «третейского судьи» (соц педагог, психолог, зам директора по ВР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этапа разбора конфликт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оппонентов «снимаются» ложные образы ситуации и друг друг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фликт всегда разре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участники конфликта выходят из конфликта победител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бы не навредить своему ребёнку, всегда обращайтесь в службу школьной медиаци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1. Не всегда следует вмешиваться в ссоры между детьми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мешайте детям получать такой жизненно важный опыт. Однако бывают ситуации, когда вмешательство взрослого необходимо.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2. Вмешиваясь в детский конфликт, никогда не занимайте сразу позицию своего ребёнка, старайтесь вникнуть в суть конфлик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843444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9840" y="1628640"/>
            <a:ext cx="871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3. Попробуйте приучить детей к мысли, что, кто бы ни начал ссору, ответственность за дальнейшее развитие событий несут  всегда двое. Поэтому, вмешиваясь в общение детей, старайтесь показать им, как можно найти способ выхода из трудной ситуации, который устроил бы их обоих, делайте акцент не на «кто виноват?», а на «что делать?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4. Помогая детям выйти из конфликта и освободиться от накопившейся обиды и злости, следите за тем, чтобы они не переходили на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611280" y="1197000"/>
            <a:ext cx="799308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    Установите причину конфликта, стараясь услышать друг друга, и правильно понять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    Будьте тактич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    Ведите разговор по сущ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    Ищите 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    Умейте признавать    свои ошиб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    Умейте слушать и слышать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9640" y="308520"/>
            <a:ext cx="7632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Arial"/>
              </a:rPr>
              <a:t>Конфликт учитель-р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5 ОСНОВНЫХ ТИПОВ КОНФЛИКТНЫХ ЛИЧНОСТЕ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АТИВ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ИГИД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ЕУПРАВЛЯЕМ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ЕРХТОЧ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ЕСКОНФЛИКТ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Спасибо за работу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мы все почувствуем стремление к пониманию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свет добра и свет любви наполнит наши сердц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152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– предоставление возможности участникам получить опыт конструктивного решения конфликтных ситуац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214200" y="2500200"/>
            <a:ext cx="8715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методам нахождения решения в конфликтных ситуа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ить со способами решения конфликтны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 участникам скорректировать свое поведение в сторону снижения его конфликтности (снять конфликтность в личностно-эмоциональной сфе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200" y="928800"/>
            <a:ext cx="86439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овесное состязание, обсуждение чего-либо между двумя или несколькими лицами, при котором каждая из сторон отстаивает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олкновение противоположно направленных, несовместимых друг с другом мнений, связанных с острыми отрицательными эмоциональными пережи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ротиворечивые позиции сторон по какому-либо по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цид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учай, происшествие (обычно неприятное), недоразумение, столкнов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ИЧИНЫ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 и обстоятельства, которые привели к изменению,                    ущемлению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ия в психологиче-                           ских особенностях                       (темперамент, характер,               потребности, мотивы                               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1"/>
          <a:stretch/>
        </p:blipFill>
        <p:spPr>
          <a:xfrm>
            <a:off x="5143680" y="2143080"/>
            <a:ext cx="34858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ОЦЕНКА СОБСТВЕННОГО ПОВЕДЕНИЯ В КОНФЛИКТНОЙ СИТУ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42920" y="14288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райтесь искренне ответить на вопрос: «Как вы обычно ведете себя в конфликтной ситуации или сп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вам свойственно то или иное поведение, поставьте соответствующее количество баллов после каждого номера ответа, характеризующего определенный стиль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одобным образом вы ведет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тавьте 3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СЛУЧАЯ К СЛУЧА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2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5 ОСНОВНЫХ СТИЛЕЙ РАЗРЕШЕНИЯ КОНФЛИКТОВ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ГЛА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Н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ЕНИЕ ПРОБЛЕМЫ (СОТРУДНИ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АСПЕКТЫ ОСОЗНАННОСТИ И НЕОСОЗНАННОСТИ В КОНФЛИКТ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происходящие от непонимания ситуации, неумения себя вести (промолчать, сдержаться и т.д.), т.е. неосозн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возникающие сознательно по воле, по меньшей мере одной из конфликтующих сторон, с целью «выплеснуть» на собеседника свою агрессивность, снять на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АГРЕССИВНОСТЬ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8584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гресс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лат. Aggredi-нападать) – поведение человека в отношении других людей, которое отличается стремлением причинить им неприятности, нанести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основных способа снятия                       агресс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592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УРОВЕНЬ КОНФЛИКТНОСТИ ЛИЧ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твете на вопрос выберите один вариант ответа, под конкретной буквой, запишите букву после номера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ботка результато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ответы к каждому вопросу имеют свою оценку в баллах. Замените выбранные вами буквы баллами и подсчитайте общую сумму набранных вами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ноокие</cp:lastModifiedBy>
  <dcterms:modified xsi:type="dcterms:W3CDTF">2020-05-11T15:52:39Z</dcterms:modified>
  <cp:revision>19</cp:revision>
  <dc:subject/>
  <dc:title>ПОНИМАНИЕ – НАЧАЛО  СОГЛАСИЯ</dc:title>
</cp:coreProperties>
</file>